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975-52C3-41D8-9B65-144AD0A3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87A-6D4C-4E89-8D0C-C728391C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694-0E49-4312-A252-3B3823BD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E70-4BA3-44B2-B5AF-CA1579D1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6A6-736F-4B93-A304-0912CAD7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E24-2B99-43EA-ADC6-F73320DE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DDF-9C16-4AF0-A2F8-4DB1B29D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D7E-CDEF-4FD9-BD2C-4BC5DC42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060-F477-4906-94A9-9C09EFF7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2E1-2E83-4854-A1E8-238E085C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347-6083-4353-B820-5BD40490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0A9-FF1D-4942-9971-5DF7AA14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7E4-940D-4490-A468-E19FC52CB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305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6600"/>
                </a:solidFill>
                <a:latin typeface="楷体"/>
                <a:ea typeface="楷体"/>
              </a:rPr>
              <a:t>We</a:t>
            </a:r>
            <a:r>
              <a:rPr b="1" i="1" lang="zh-CN" sz="4400" spc="-1" strike="noStrike">
                <a:solidFill>
                  <a:srgbClr val="ff6600"/>
                </a:solidFill>
                <a:latin typeface="楷体"/>
                <a:ea typeface="楷体"/>
              </a:rPr>
              <a:t>奇迹项目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0481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第一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杨梅 刘恋 圣添姿 蒋锡佳 曾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80074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30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914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本周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828800"/>
            <a:ext cx="2666880" cy="1371600"/>
          </a:xfrm>
          <a:prstGeom prst="rightArrow">
            <a:avLst>
              <a:gd name="adj1" fmla="val 50000"/>
              <a:gd name="adj2" fmla="val 486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两次寻找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3505320"/>
            <a:ext cx="2667240" cy="1523880"/>
          </a:xfrm>
          <a:prstGeom prst="rightArrow">
            <a:avLst>
              <a:gd name="adj1" fmla="val 50000"/>
              <a:gd name="adj2" fmla="val 437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两次寻找项目的体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105520"/>
            <a:ext cx="2590920" cy="1371600"/>
          </a:xfrm>
          <a:prstGeom prst="rightArrow">
            <a:avLst>
              <a:gd name="adj1" fmla="val 50000"/>
              <a:gd name="adj2" fmla="val 472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失败分析与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04920"/>
            <a:ext cx="2286000" cy="13716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项目寻找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提前准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238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避免与其他组寻找项目地点的冲突，提前询问其他组寻找地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59562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初次寻找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点：火车站一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下午一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过：主要针对马路边的一些店铺，酒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果：全部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再次寻找项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点：太平街附近一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6-9-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过：针对平和堂的商务楼里的公司进行询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果：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2664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寻找体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明确的目标（目的性不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一个强有力的说服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寻找中遇到的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寻找的很盲目，不会筛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选址也不清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分析与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寻找项目中，没有事先调研，选址盲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先没有组织好语言，说服力差，难让人信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1808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6600"/>
                </a:solidFill>
                <a:latin typeface="Arial"/>
                <a:ea typeface="楷体"/>
              </a:rPr>
              <a:t>谢谢观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2T08:08:17Z</dcterms:created>
  <dc:creator>mei yang</dc:creator>
  <dc:description/>
  <dc:language>en-US</dc:language>
  <cp:lastModifiedBy>793564075@qq.com</cp:lastModifiedBy>
  <dcterms:modified xsi:type="dcterms:W3CDTF">2016-09-06T15:07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