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D9C9-9EBB-4D20-8FB9-558162B0CE5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E0F8-5685-498A-BAAC-B0F3086EBF0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C893-E768-4556-A18A-19627CB4232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2C4E-EF33-410F-989D-9CBC1072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2FC0-7BCF-4973-A2A7-82DE3E15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20C4-96DD-4499-8571-A15FC22F7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AF7E-DC10-4DE7-B4C0-ED85FF020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0AE9-23AA-457A-A364-D16237E9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781E-F328-4D75-BDDA-7EC48C8A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944D-1F8E-4BED-A7C8-F1B6781C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1D9B-15E2-414D-A9B6-B9284E13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8B5D-F818-443F-B2EB-486A9C48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D65D-6F8A-4050-AA10-9B2482BD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7D6D-86A9-4674-8620-0B29CA7B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9589-3F3C-4EE4-B5F9-D7C127D6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93BF-B8AA-464F-B841-EC4555BA9E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38656;&#27714;&#25991;&#26723;.doc" TargetMode="External"/><Relationship Id="rId2" Type="http://schemas.openxmlformats.org/officeDocument/2006/relationships/hyperlink" Target="file:///&#38656;&#27714;&#25991;&#26723;.doc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26366;&#38589;%20&#21512;&#21516;.doc" TargetMode="External"/><Relationship Id="rId2" Type="http://schemas.openxmlformats.org/officeDocument/2006/relationships/hyperlink" Target="file:///&#26366;&#38589;%20&#21512;&#21516;.doc" TargetMode="External"/><Relationship Id="rId3" Type="http://schemas.openxmlformats.org/officeDocument/2006/relationships/hyperlink" Target="file:///&#22307;&#28155;&#23039;.wps" TargetMode="External"/><Relationship Id="rId4" Type="http://schemas.openxmlformats.org/officeDocument/2006/relationships/hyperlink" Target="file:///&#22307;&#28155;&#23039;.wps" TargetMode="External"/><Relationship Id="rId5" Type="http://schemas.openxmlformats.org/officeDocument/2006/relationships/hyperlink" Target="file:///&#22307;&#28155;&#23039;.wps" TargetMode="External"/><Relationship Id="rId6" Type="http://schemas.openxmlformats.org/officeDocument/2006/relationships/hyperlink" Target="file:///&#21016;&#24651;%20&#21512;&#21516;.docx" TargetMode="External"/><Relationship Id="rId7" Type="http://schemas.openxmlformats.org/officeDocument/2006/relationships/hyperlink" Target="file:///&#21016;&#24651;%20&#21512;&#21516;.docx" TargetMode="External"/><Relationship Id="rId8" Type="http://schemas.openxmlformats.org/officeDocument/2006/relationships/hyperlink" Target="file:///&#21016;&#24651;%20&#21512;&#21516;.docx" TargetMode="External"/><Relationship Id="rId9" Type="http://schemas.openxmlformats.org/officeDocument/2006/relationships/hyperlink" Target="file:///&#33931;&#38177;&#20339;.docx" TargetMode="External"/><Relationship Id="rId10" Type="http://schemas.openxmlformats.org/officeDocument/2006/relationships/hyperlink" Target="file:///&#33931;&#38177;&#20339;.docx" TargetMode="External"/><Relationship Id="rId11" Type="http://schemas.openxmlformats.org/officeDocument/2006/relationships/hyperlink" Target="file:///&#33931;&#38177;&#20339;.docx" TargetMode="External"/><Relationship Id="rId12" Type="http://schemas.openxmlformats.org/officeDocument/2006/relationships/hyperlink" Target="file:///&#26472;&#26757;.doc" TargetMode="External"/><Relationship Id="rId13" Type="http://schemas.openxmlformats.org/officeDocument/2006/relationships/hyperlink" Target="file:///&#26472;&#26757;.doc" TargetMode="External"/><Relationship Id="rId1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21512;&#21516;.doc" TargetMode="External"/><Relationship Id="rId2" Type="http://schemas.openxmlformats.org/officeDocument/2006/relationships/hyperlink" Target="file:///&#21512;&#21516;.doc" TargetMode="External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8007480" cy="1225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楷体"/>
                <a:ea typeface="楷体"/>
              </a:rPr>
              <a:t>We</a:t>
            </a:r>
            <a:r>
              <a:rPr b="1" i="1" lang="zh-CN" sz="4400" spc="-1" strike="noStrike">
                <a:solidFill>
                  <a:srgbClr val="ff9900"/>
                </a:solidFill>
                <a:latin typeface="楷体"/>
                <a:ea typeface="楷体"/>
              </a:rPr>
              <a:t>奇迹项目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79640" y="3500280"/>
            <a:ext cx="51134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五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杨梅 刘恋 圣添姿 蒋锡佳 曾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单圆角矩形 3"/>
          <p:cNvSpPr/>
          <p:nvPr/>
        </p:nvSpPr>
        <p:spPr>
          <a:xfrm flipH="1">
            <a:off x="2843280" y="2502000"/>
            <a:ext cx="527040" cy="49536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叶根友爵宋体"/>
                <a:ea typeface="叶根友爵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3348000" y="2502000"/>
            <a:ext cx="2879640" cy="495360"/>
          </a:xfrm>
          <a:prstGeom prst="rect">
            <a:avLst/>
          </a:prstGeom>
          <a:solidFill>
            <a:srgbClr val="d4e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需求文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单圆角矩形 7"/>
          <p:cNvSpPr/>
          <p:nvPr/>
        </p:nvSpPr>
        <p:spPr>
          <a:xfrm>
            <a:off x="6248520" y="3294000"/>
            <a:ext cx="527040" cy="49536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叶根友爵宋体"/>
                <a:ea typeface="叶根友爵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/>
          <p:cNvSpPr/>
          <p:nvPr/>
        </p:nvSpPr>
        <p:spPr>
          <a:xfrm>
            <a:off x="3348000" y="3284640"/>
            <a:ext cx="2879640" cy="495360"/>
          </a:xfrm>
          <a:prstGeom prst="rect">
            <a:avLst/>
          </a:prstGeom>
          <a:solidFill>
            <a:srgbClr val="d4e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撰写合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3"/>
          <p:cNvSpPr/>
          <p:nvPr/>
        </p:nvSpPr>
        <p:spPr>
          <a:xfrm>
            <a:off x="199440" y="2100240"/>
            <a:ext cx="182628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2c9"/>
                </a:solidFill>
                <a:latin typeface="微软雅黑"/>
              </a:rPr>
              <a:t>Cont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14"/>
          <p:cNvSpPr/>
          <p:nvPr/>
        </p:nvSpPr>
        <p:spPr>
          <a:xfrm>
            <a:off x="1022400" y="1130400"/>
            <a:ext cx="869760" cy="869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000"/>
                </a:solidFill>
                <a:latin typeface="微软雅黑"/>
              </a:rPr>
              <a:t>目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15"/>
          <p:cNvSpPr/>
          <p:nvPr/>
        </p:nvSpPr>
        <p:spPr>
          <a:xfrm>
            <a:off x="739800" y="1809720"/>
            <a:ext cx="682560" cy="682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000"/>
                </a:solidFill>
                <a:latin typeface="微软雅黑"/>
              </a:rPr>
              <a:t>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单圆角矩形 3"/>
          <p:cNvSpPr/>
          <p:nvPr/>
        </p:nvSpPr>
        <p:spPr>
          <a:xfrm flipH="1">
            <a:off x="2820960" y="4086360"/>
            <a:ext cx="527040" cy="49500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叶根友爵宋体"/>
                <a:ea typeface="叶根友爵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4"/>
          <p:cNvSpPr/>
          <p:nvPr/>
        </p:nvSpPr>
        <p:spPr>
          <a:xfrm>
            <a:off x="3348000" y="4086360"/>
            <a:ext cx="2879640" cy="495000"/>
          </a:xfrm>
          <a:prstGeom prst="rect">
            <a:avLst/>
          </a:prstGeom>
          <a:solidFill>
            <a:srgbClr val="d4e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合同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任意多边形 14"/>
          <p:cNvSpPr/>
          <p:nvPr/>
        </p:nvSpPr>
        <p:spPr>
          <a:xfrm flipH="1">
            <a:off x="0" y="692280"/>
            <a:ext cx="2324160" cy="687240"/>
          </a:xfrm>
          <a:prstGeom prst="pie">
            <a:avLst/>
          </a:prstGeom>
          <a:gradFill rotWithShape="0">
            <a:gsLst>
              <a:gs pos="0">
                <a:srgbClr val="c59b00"/>
              </a:gs>
              <a:gs pos="100000">
                <a:srgbClr val="ffca08"/>
              </a:gs>
            </a:gsLst>
            <a:lin ang="5400000"/>
          </a:gradFill>
          <a:ln w="0">
            <a:noFill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216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需求文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需求文档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任意多边形 14"/>
          <p:cNvSpPr/>
          <p:nvPr/>
        </p:nvSpPr>
        <p:spPr>
          <a:xfrm flipH="1">
            <a:off x="0" y="692280"/>
            <a:ext cx="2324160" cy="687240"/>
          </a:xfrm>
          <a:prstGeom prst="pie">
            <a:avLst/>
          </a:prstGeom>
          <a:gradFill rotWithShape="0">
            <a:gsLst>
              <a:gs pos="0">
                <a:srgbClr val="c59b00"/>
              </a:gs>
              <a:gs pos="100000">
                <a:srgbClr val="ffca08"/>
              </a:gs>
            </a:gsLst>
            <a:lin ang="5400000"/>
          </a:gradFill>
          <a:ln w="0">
            <a:noFill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216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撰写合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6048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曾隽 合同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圣添姿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刘恋 合同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doc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蒋锡佳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doc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杨梅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任意多边形 14"/>
          <p:cNvSpPr/>
          <p:nvPr/>
        </p:nvSpPr>
        <p:spPr>
          <a:xfrm flipH="1">
            <a:off x="0" y="692280"/>
            <a:ext cx="2324160" cy="687240"/>
          </a:xfrm>
          <a:prstGeom prst="pie">
            <a:avLst/>
          </a:prstGeom>
          <a:gradFill rotWithShape="0">
            <a:gsLst>
              <a:gs pos="0">
                <a:srgbClr val="c59b00"/>
              </a:gs>
              <a:gs pos="100000">
                <a:srgbClr val="ffca08"/>
              </a:gs>
            </a:gsLst>
            <a:lin ang="5400000"/>
          </a:gradFill>
          <a:ln w="0">
            <a:noFill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216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合同整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合同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d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楷体"/>
              </a:rPr>
              <a:t>谢谢观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7180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7T03:39:14Z</dcterms:created>
  <dc:creator>Administrator</dc:creator>
  <dc:description/>
  <cp:keywords/>
  <dc:language>en-US</dc:language>
  <cp:lastModifiedBy>793564075@qq.com</cp:lastModifiedBy>
  <dcterms:modified xsi:type="dcterms:W3CDTF">2016-10-08T11:22:58Z</dcterms:modified>
  <cp:revision>12</cp:revision>
  <dc:subject/>
  <dc:title>40个精美PPT模板（目录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79</vt:lpwstr>
  </property>
</Properties>
</file>