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050840" y="754200"/>
            <a:ext cx="4572000" cy="32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538200" y="4387320"/>
            <a:ext cx="5780160" cy="39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3882960" y="0"/>
            <a:ext cx="2975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2960" y="8686800"/>
            <a:ext cx="2975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F3534-329A-49AC-827C-04DAE7B66E03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3882960" y="8686800"/>
            <a:ext cx="2975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93C13-79A7-45AC-AEAF-B39D304E4482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-36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-360" y="0"/>
            <a:ext cx="2973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3882960" y="0"/>
            <a:ext cx="2975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371600" y="1141560"/>
            <a:ext cx="4114800" cy="308592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4360" y="4398840"/>
            <a:ext cx="548640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模板来自于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docer.wps.c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灯片编号占位符 3"/>
          <p:cNvSpPr/>
          <p:nvPr/>
        </p:nvSpPr>
        <p:spPr>
          <a:xfrm>
            <a:off x="3882960" y="868356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6E4C7-142C-49FA-AFE9-5081DAF3F8EE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A1858-59FE-418A-9A01-9C93AB606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7B4B6-B127-411A-99C5-98A72E798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813FF-8662-4090-A0EC-43DB7CB82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05722-F8B5-4E62-8487-F89E8D2E7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25BBA-B412-4EBF-B1C5-C0B5A5179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9CB2B-7F13-46E1-BD86-11D934447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31A10-80FD-4AA5-AA00-E7D5B854D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50DD3-2AC2-4AC8-A1EF-C7DBEBE56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CB54C-9906-43A4-AD4A-1E5261C29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3B42A-D862-4415-82EA-626CC6CB1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2B06D-8907-4290-A4C6-B528C9636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90B39-1D84-4DA8-900E-85F18971F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2DE29-9093-4B2D-9D34-D5819AAE7EF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zcx/index.html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zcx/paging/contact.html" TargetMode="Externa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zcx/paging/contac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5280" y="5300640"/>
            <a:ext cx="8007480" cy="12254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24000" y="191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9900"/>
                </a:solidFill>
                <a:latin typeface="楷体"/>
                <a:ea typeface="楷体"/>
              </a:rPr>
              <a:t>We</a:t>
            </a:r>
            <a:r>
              <a:rPr b="1" i="1" lang="zh-CN" sz="4400" spc="-1" strike="noStrike">
                <a:solidFill>
                  <a:srgbClr val="ff9900"/>
                </a:solidFill>
                <a:latin typeface="楷体"/>
                <a:ea typeface="楷体"/>
              </a:rPr>
              <a:t>奇迹项目报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979640" y="3500280"/>
            <a:ext cx="51134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十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杨梅 刘恋 圣添姿 蒋锡佳 曾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单圆角矩形 3"/>
          <p:cNvSpPr/>
          <p:nvPr/>
        </p:nvSpPr>
        <p:spPr>
          <a:xfrm flipH="1">
            <a:off x="2843280" y="2502000"/>
            <a:ext cx="527040" cy="495360"/>
          </a:xfrm>
          <a:prstGeom prst="pi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叶根友爵宋体"/>
                <a:ea typeface="叶根友爵宋体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4"/>
          <p:cNvSpPr/>
          <p:nvPr/>
        </p:nvSpPr>
        <p:spPr>
          <a:xfrm>
            <a:off x="3348000" y="2502000"/>
            <a:ext cx="2879640" cy="495360"/>
          </a:xfrm>
          <a:prstGeom prst="rect">
            <a:avLst/>
          </a:prstGeom>
          <a:solidFill>
            <a:srgbClr val="d4ec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4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主页代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单圆角矩形 7"/>
          <p:cNvSpPr/>
          <p:nvPr/>
        </p:nvSpPr>
        <p:spPr>
          <a:xfrm>
            <a:off x="6248520" y="3294000"/>
            <a:ext cx="527040" cy="495360"/>
          </a:xfrm>
          <a:prstGeom prst="pi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叶根友爵宋体"/>
                <a:ea typeface="叶根友爵宋体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8"/>
          <p:cNvSpPr/>
          <p:nvPr/>
        </p:nvSpPr>
        <p:spPr>
          <a:xfrm>
            <a:off x="3348000" y="3284640"/>
            <a:ext cx="2879640" cy="495360"/>
          </a:xfrm>
          <a:prstGeom prst="rect">
            <a:avLst/>
          </a:prstGeom>
          <a:solidFill>
            <a:srgbClr val="d4ec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4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模板格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文本框 13"/>
          <p:cNvSpPr/>
          <p:nvPr/>
        </p:nvSpPr>
        <p:spPr>
          <a:xfrm>
            <a:off x="199440" y="2100240"/>
            <a:ext cx="1826280" cy="24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2c9"/>
                </a:solidFill>
                <a:latin typeface="微软雅黑"/>
              </a:rPr>
              <a:t>Content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椭圆 14"/>
          <p:cNvSpPr/>
          <p:nvPr/>
        </p:nvSpPr>
        <p:spPr>
          <a:xfrm>
            <a:off x="1022400" y="1130400"/>
            <a:ext cx="869760" cy="8697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7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c000"/>
                </a:solidFill>
                <a:latin typeface="微软雅黑"/>
              </a:rPr>
              <a:t>目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椭圆 15"/>
          <p:cNvSpPr/>
          <p:nvPr/>
        </p:nvSpPr>
        <p:spPr>
          <a:xfrm>
            <a:off x="739800" y="1809720"/>
            <a:ext cx="682560" cy="6825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c000"/>
                </a:solidFill>
                <a:latin typeface="微软雅黑"/>
              </a:rPr>
              <a:t>录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单圆角矩形 3"/>
          <p:cNvSpPr/>
          <p:nvPr/>
        </p:nvSpPr>
        <p:spPr>
          <a:xfrm flipH="1">
            <a:off x="2820960" y="4086360"/>
            <a:ext cx="527040" cy="495000"/>
          </a:xfrm>
          <a:prstGeom prst="pi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叶根友爵宋体"/>
                <a:ea typeface="叶根友爵宋体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4"/>
          <p:cNvSpPr/>
          <p:nvPr/>
        </p:nvSpPr>
        <p:spPr>
          <a:xfrm>
            <a:off x="3348000" y="4086360"/>
            <a:ext cx="2879640" cy="495000"/>
          </a:xfrm>
          <a:prstGeom prst="rect">
            <a:avLst/>
          </a:prstGeom>
          <a:solidFill>
            <a:srgbClr val="d4ec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4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网站整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单圆角矩形 7"/>
          <p:cNvSpPr/>
          <p:nvPr/>
        </p:nvSpPr>
        <p:spPr>
          <a:xfrm>
            <a:off x="6319800" y="4890960"/>
            <a:ext cx="527040" cy="495360"/>
          </a:xfrm>
          <a:prstGeom prst="pi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叶根友爵宋体"/>
                <a:ea typeface="叶根友爵宋体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8"/>
          <p:cNvSpPr/>
          <p:nvPr/>
        </p:nvSpPr>
        <p:spPr>
          <a:xfrm>
            <a:off x="3419640" y="4869000"/>
            <a:ext cx="2879640" cy="495000"/>
          </a:xfrm>
          <a:prstGeom prst="rect">
            <a:avLst/>
          </a:prstGeom>
          <a:solidFill>
            <a:srgbClr val="d4ec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4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总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任意多边形 14"/>
          <p:cNvSpPr/>
          <p:nvPr/>
        </p:nvSpPr>
        <p:spPr>
          <a:xfrm flipH="1">
            <a:off x="0" y="692280"/>
            <a:ext cx="2324160" cy="687240"/>
          </a:xfrm>
          <a:prstGeom prst="pie">
            <a:avLst/>
          </a:prstGeom>
          <a:gradFill rotWithShape="0">
            <a:gsLst>
              <a:gs pos="0">
                <a:srgbClr val="c59b00"/>
              </a:gs>
              <a:gs pos="100000">
                <a:srgbClr val="ffca08"/>
              </a:gs>
            </a:gsLst>
            <a:lin ang="5400000"/>
          </a:gradFill>
          <a:ln w="0">
            <a:noFill/>
          </a:ln>
          <a:effectLst>
            <a:outerShdw dist="38183" dir="2700000" blurRad="0" rotWithShape="0">
              <a:srgbClr val="000000">
                <a:alpha val="1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216000" tIns="4680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主页代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68000" y="1628640"/>
            <a:ext cx="748836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主页代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zcx\index.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任意多边形 14"/>
          <p:cNvSpPr/>
          <p:nvPr/>
        </p:nvSpPr>
        <p:spPr>
          <a:xfrm flipH="1">
            <a:off x="0" y="692280"/>
            <a:ext cx="2324160" cy="687240"/>
          </a:xfrm>
          <a:prstGeom prst="pie">
            <a:avLst/>
          </a:prstGeom>
          <a:gradFill rotWithShape="0">
            <a:gsLst>
              <a:gs pos="0">
                <a:srgbClr val="c59b00"/>
              </a:gs>
              <a:gs pos="100000">
                <a:srgbClr val="ffca08"/>
              </a:gs>
            </a:gsLst>
            <a:lin ang="5400000"/>
          </a:gradFill>
          <a:ln w="0">
            <a:noFill/>
          </a:ln>
          <a:effectLst>
            <a:outerShdw dist="38183" dir="2700000" blurRad="0" rotWithShape="0">
              <a:srgbClr val="000000">
                <a:alpha val="1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216000" tIns="4680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分页模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395280" y="1773000"/>
            <a:ext cx="48960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模板格式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zcx\paging\contact.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任意多边形 14"/>
          <p:cNvSpPr/>
          <p:nvPr/>
        </p:nvSpPr>
        <p:spPr>
          <a:xfrm flipH="1">
            <a:off x="0" y="692280"/>
            <a:ext cx="2324160" cy="687240"/>
          </a:xfrm>
          <a:prstGeom prst="pie">
            <a:avLst/>
          </a:prstGeom>
          <a:gradFill rotWithShape="0">
            <a:gsLst>
              <a:gs pos="0">
                <a:srgbClr val="c59b00"/>
              </a:gs>
              <a:gs pos="100000">
                <a:srgbClr val="ffca08"/>
              </a:gs>
            </a:gsLst>
            <a:lin ang="5400000"/>
          </a:gradFill>
          <a:ln w="0">
            <a:noFill/>
          </a:ln>
          <a:effectLst>
            <a:outerShdw dist="38183" dir="2700000" blurRad="0" rotWithShape="0">
              <a:srgbClr val="000000">
                <a:alpha val="1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216000" tIns="4680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网站整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395280" y="1773000"/>
            <a:ext cx="48960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模板格式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zcx\paging\contact.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任意多边形 14"/>
          <p:cNvSpPr/>
          <p:nvPr/>
        </p:nvSpPr>
        <p:spPr>
          <a:xfrm flipH="1">
            <a:off x="0" y="692280"/>
            <a:ext cx="2324160" cy="687240"/>
          </a:xfrm>
          <a:prstGeom prst="pie">
            <a:avLst/>
          </a:prstGeom>
          <a:gradFill rotWithShape="0">
            <a:gsLst>
              <a:gs pos="0">
                <a:srgbClr val="c59b00"/>
              </a:gs>
              <a:gs pos="100000">
                <a:srgbClr val="ffca08"/>
              </a:gs>
            </a:gsLst>
            <a:lin ang="5400000"/>
          </a:gradFill>
          <a:ln w="0">
            <a:noFill/>
          </a:ln>
          <a:effectLst>
            <a:outerShdw dist="38183" dir="2700000" blurRad="0" rotWithShape="0">
              <a:srgbClr val="000000">
                <a:alpha val="1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216000" tIns="4680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总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68360" y="1628640"/>
            <a:ext cx="79200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主要的问题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js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效果不出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模板不熟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4360" y="2997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9900"/>
                </a:solidFill>
                <a:latin typeface="Arial"/>
                <a:ea typeface="楷体"/>
              </a:rPr>
              <a:t>谢谢观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971800" cy="18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17T03:39:14Z</dcterms:created>
  <dc:creator>Administrator</dc:creator>
  <dc:description/>
  <cp:keywords/>
  <dc:language>en-US</dc:language>
  <cp:lastModifiedBy>793564075@qq.com</cp:lastModifiedBy>
  <dcterms:modified xsi:type="dcterms:W3CDTF">2016-11-22T08:16:28Z</dcterms:modified>
  <cp:revision>19</cp:revision>
  <dc:subject/>
  <dc:title>40个精美PPT模板（目录）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79</vt:lpwstr>
  </property>
</Properties>
</file>